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B9A-E91C-419C-87FC-D28236E9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215-4D01-405C-B7E0-AB0A4C2E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D68-CEEE-44C9-8C6D-1136879E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2B5-FD3E-4A5A-A73F-83152D0B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B82-A3E8-46FC-89C2-125CA939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6FE1-D639-4B07-8DF1-DEF87509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5605-E870-438F-B331-EF8FF6AB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4C2E-DEAC-4178-9950-D1032F5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F188-5B6B-48E5-9F42-93AB614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1CC9-0174-48B6-999B-3FF6A11F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C247-FA1B-4878-B4B8-469F7519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8CD-7B2B-4744-BE4A-EF0B7BE6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2E39-058A-46E5-B434-319FB35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4E47-CCFF-4FC9-A77F-D1C7E54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0E3B-950A-480F-96DF-CC7EBD7B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E337-B7A9-4374-8C2B-28F40D0C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7251-24DB-41D8-B1E8-AC07EA40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012-6228-483F-B94B-E3BDB7CF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962-692A-4652-9E6A-CDFB95FC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261-5A57-4209-B4D6-ED93F09D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6D1-4EF5-49F5-9509-E66FC4B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BC3-6160-4C68-8F29-E28CD63A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92A-60D5-475B-87F0-0B70D46B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B5B-E398-4516-9F1A-D91D95E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DDD-CC40-42A1-B7BD-CF92E45F6A6F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480E-5677-495C-B538-6B02D0D03E52}" type="slidenum">
              <a:rPr b="0" lang="fi-FI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ekstin kirjoitta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llenn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luetoiminn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uotoilu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uluko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Kuvan lisäämine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ulost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5756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1:08:57Z</dcterms:created>
  <dc:creator>atk</dc:creator>
  <dc:description/>
  <dc:language>en-US</dc:language>
  <cp:lastModifiedBy>Kurssi</cp:lastModifiedBy>
  <dcterms:modified xsi:type="dcterms:W3CDTF">2003-02-17T11:25:35Z</dcterms:modified>
  <cp:revision>4</cp:revision>
  <dc:subject/>
  <dc:title>Ei dian otsikkoa</dc:title>
</cp:coreProperties>
</file>